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EC7-DA40-48CD-BB0E-20B66509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1F2-E900-4BAC-8CE4-969FAB31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EDF-13EB-4F9A-B92E-B71A3C19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64C-D88F-4BFA-9839-D4ECB36B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70DD-D963-4A6F-938E-E8DEB13C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1A8D-9505-4295-B14B-15B4673A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F901-E94A-4DE5-BFDA-8BCD9EBC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2AA5-BCBA-4018-8356-C3BAB73A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5B51-96D7-4268-8BA0-403647F0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2B0-34E2-4194-9BA8-74D9FE6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CE4B-C897-4E74-9FE5-E2E2B89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830-09C6-4D62-B595-0ECACE95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6B33-6B4E-417D-902C-F8B58C8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984-2FCB-434C-BB62-405224C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E2F2-B624-44A7-ADAE-418851FB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714C-F2BC-4CAA-BA39-2B6442CD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7BF-BF6C-4547-845D-17113BF9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347-0625-480A-8CFE-48B2442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126-B3EA-4774-A646-3DF0E97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854-DBFD-4AD2-9AED-0B7856A2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378-B070-4055-885A-62E66F0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EF1-27D3-4E7B-9C91-3C3B7F99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A9D-FCC6-4786-9A77-302046FB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ED1-6FAB-4621-8C2B-7C172AF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F69-E37B-4624-AABB-165F0818FB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6F15-CCAA-41C8-A055-F29337C5E7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98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98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98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98"/>
                            </p:stCondLst>
                            <p:childTnLst>
                              <p:par>
                                <p:cTn id="34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598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900"/>
                            </p:stCondLst>
                            <p:childTnLst>
                              <p:par>
                                <p:cTn id="3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900"/>
                            </p:stCondLst>
                            <p:childTnLst>
                              <p:par>
                                <p:cTn id="3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900"/>
                            </p:stCondLst>
                            <p:childTnLst>
                              <p:par>
                                <p:cTn id="3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900"/>
                            </p:stCondLst>
                            <p:childTnLst>
                              <p:par>
                                <p:cTn id="3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900"/>
                            </p:stCondLst>
                            <p:childTnLst>
                              <p:par>
                                <p:cTn id="4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9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10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0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0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0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1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12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1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1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2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4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00"/>
                            </p:stCondLst>
                            <p:childTnLst>
                              <p:par>
                                <p:cTn id="1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90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9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5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850"/>
                            </p:stCondLst>
                            <p:childTnLst>
                              <p:par>
                                <p:cTn id="24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850"/>
                            </p:stCondLst>
                            <p:childTnLst>
                              <p:par>
                                <p:cTn id="25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50"/>
                            </p:stCondLst>
                            <p:childTnLst>
                              <p:par>
                                <p:cTn id="256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